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95EA-C518-422E-89EA-1579906B6A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33D-BEBB-4C69-AFDB-E7FFEFC2D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CB43-984C-4DC5-A14B-3D43931D9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E1E4-AE23-440B-B347-1335767EC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81ED-118C-4B3B-9A4F-D496F958C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EC4D-9A55-4B9D-A901-0CDF69C8D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C6F3-510C-46D6-A786-641D62AF2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E383-B9C4-4832-A84C-E2009D633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03AC-587B-4A7C-8BD1-EE8AF95EC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9677-17FB-49AE-957F-156F49035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E218-55B1-4F1A-8BA9-3607EE21D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9D58-C4D5-430A-99E0-2725D59F7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7E9E-6003-4B41-A14C-24A889F4B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DA1B-3320-4F2F-9074-99ED49FE8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84DD-08C4-47C7-B0B1-BCD19CA09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464F-D368-4491-AAF0-0919AB07E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D1A5-D2B0-4936-AF5D-2723865BE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A9E5-E86B-4C70-B472-97CC3E857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A162-0CB5-4665-A1E6-20E86AFAF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163B-ADFC-4302-A3BA-7459ACF47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2741-DBC3-4E9B-8C46-02AB4CF87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EB02-DCAE-46F6-8F99-2D56A1CA9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F5F7-040F-4119-8A27-F0BB08FCD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20E9-41FA-4393-AC10-95B18D16C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C3BD-B613-48FD-8929-92402909A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AA0A-8E88-41A1-A818-2B689557A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3FE-097E-4A64-874F-FD4F1FB7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505-25D4-45DE-9335-8F18E461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F129B-D231-4F34-8F23-C152DCA6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D0CE3-804B-4BE5-AD9F-92CF33DF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C89CC-4AE4-4255-A86B-9395EC49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7C722-D988-4702-B49B-2B48465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ABD74-049D-484C-B2BB-9D5BE767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EB89D-1569-4892-8B93-2B454F5D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CBB74-3C68-45BD-9303-9A8447D4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C200D-27A9-4404-8C72-EBCF4636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C773E-00B1-4FB0-8B05-89EF417A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6CDC4-9266-40B2-B86E-0BB30D10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7D3-8CF8-45BE-B791-BA694E00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AFF59-7B44-45C7-85A2-430B8C18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F5BB5-D46B-4ABB-BB8C-C4643894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AA4D7-2FB4-48B4-8459-A56A253F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248A2-A6C6-460F-96B2-C5B4744C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274E0-AF63-49FB-8CC2-DF742230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79766-F440-4CD7-9D36-4F7A0940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14754-9180-41FF-97E1-DE3ADC7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280BE-1AB8-4677-9855-AF68543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A80B8-846D-4009-A2DB-0590B54C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C8335-D3FE-47E4-BC7D-3753A03E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C0D-FB34-49B2-8B3A-3FD51533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3D1EE-B96F-40EA-AD64-0CF6BA80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D9013-FEDA-454E-8C69-429A331C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3CCFB-61F0-443E-8B90-042B1566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BB877-9880-4EBB-920A-BA70F015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9DEDD-5E57-4955-A0E3-C5D6BD23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303E9-A280-444C-907B-6372ECF4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9E920-6893-48E2-AA5A-60E9A8A2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CD98C-2001-48D2-A499-73838C79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74D51-37CA-4B0A-A43F-FF03CE1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DB10D-2101-47A6-9391-CB000F49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0AF2-72F2-434A-8331-49A883D5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0DB4C-5E96-468C-A9D3-AF10897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A49D4-9444-421B-808C-34820480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1B0CC-60E4-485A-B193-219985A8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22955-0B56-488C-A8A7-6B633669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611C9-72BE-474D-819A-BCEB8C81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C6D6E-C700-40A4-85A1-9B506404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E4711-175A-45F5-8898-83B3C004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DF936-9881-46DF-9598-18EA1A57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78E36-B315-4CEA-A369-2A46E8E4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3560C-76C5-4850-B556-649F275A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CC35-0F4C-4BBA-B135-6740000B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65601-6953-43ED-8C33-935CD81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517D3-0E73-42D3-8A9C-63BFD919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F5A3D-9D52-482D-AEDC-C781D808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DDDF7-E4DB-47AA-87F5-3762D7B7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CC2AB-9079-4143-A44D-2436043C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6D9BA-0367-48A8-8C9C-2EC19209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CCE23-B7DA-492E-A0CF-3D96AE79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4014C-A8E0-4FE2-805D-E1DF1401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EBC61-EBD5-4FEE-8366-9D59255D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A4C18-4FEE-476F-A9CF-BDD0DF01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A9F1-6C9D-4647-9060-09FE2ED2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BFD10-9F35-40BB-B9EA-15B9A26B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E5CB8-1FD4-411D-8E19-EC0F1D99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C0D5D-6F42-43F2-B7F6-6797C53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3F667-9A91-4DC2-9F1A-466092A6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04C94-1F9B-4EB2-A210-8C0843FC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9C17E-7579-41CB-9F9C-07FEEF7D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70500-5579-477B-B3D7-C43BD99B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D238B-B02C-47C0-B80B-9AF07497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329F7-ADEF-434D-8E29-CB1BE631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F256C-725C-4E82-8181-980F8ADF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C6D5-D0CF-4DF7-830C-FB1AC0BE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7B7BE-49D4-4AC4-B150-34BD13A7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D74F2-9CE0-4C6D-9436-47D2E554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089DC-F143-4389-AA9C-9A19D8DC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3CF3D-B34B-4121-9805-0285BE8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F09FC-9632-433D-858D-1AFC9670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E63EA-F1CC-410E-8D99-07D1E65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5A4DF-4F25-4F22-81E0-7F6DBEB9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DEB6F-8D80-4A5B-8BE1-372465E1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390DB-9DE2-464C-A5D9-2CA53284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5FEC6F-ADA7-48EA-967E-7DD90902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7280-26AB-43CB-B373-97F06A04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BF3E7-1C12-416F-B86E-AF7928D0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A10B7-3E91-415B-BD8B-FEE54CD4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2C901-ADB7-4A90-915C-C59810ED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B71C0-B51A-4204-A3DA-2BB66760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05D6D-FC06-4C38-828C-36883AE0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D40F3-15C6-4651-B719-E4DEF6B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A793E-40B8-446A-B307-94C600FB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77CF5-8654-457F-895F-AEB2EC44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8917C-752A-47AF-8EF8-3336CADE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B6589-3C0B-47F7-B817-27000DAE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36B3-2F95-4A13-8DBA-CCBB441F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D8512-5680-46B7-9789-618F5C71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C2F11-586F-4FAD-8D4C-BA52DFD6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F5C3D-340C-4C2F-B12D-D95A1F89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77C0D-05DC-49F1-8F0C-B7F48C3A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B52F1-AAE4-498E-80FA-29A4C9BD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B792E-85C0-461D-878A-CFEFA3E9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DCDF7-E6DA-4400-A141-67F2B635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6EEA0-A6D6-45DC-B3B6-85DC6BC7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C247E-026E-4E30-AD07-89DCF9B6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C94CA-8AC2-47D5-9CC0-38DF58DD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93A2-DB5F-4D6C-A003-A4C4B77E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86EF2-17D9-49CE-B4DC-1024A1D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8BE29-803B-42DD-84A6-BE4150DD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354A8-2B44-4FD1-B4A1-7F8C9F0C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4BEFBB-C622-4836-95AF-D00E54F8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67B7A-7FAC-4F06-BB0B-8B8426D2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F3F94-ED91-4821-B9F1-7F790F18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E40F5-2BC6-4135-8301-A89AB321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F3D41-ECB3-405B-A06F-30EE3304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ACD6B-BE3E-4AD4-A7CD-B80FF71F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2D91EA-F774-4410-B7A7-1FABC651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157-0F31-4F44-937F-073B4B3C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87AA-25A0-422C-A74A-4FC52DE6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71F49-7A8B-47E7-BB46-58DD62FE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DCF7EC-7924-47F7-9FB8-FF4E890B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4BCA0-EFC3-466D-AF07-104BEDB2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02D90-E7E9-4C17-8CBC-5906D4F5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08D3B-F1BB-4AA0-B1A7-B29A1ECD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CFB1-8A6D-458D-8823-AA939D36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3E89-7F93-44FE-8E3A-44D86E1C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9C2C-636C-420D-8FAD-6F2B7FED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5E15-7E4E-4898-8E78-1457B5DA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951E-7CF2-42AC-9064-17877BB9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02CD8-874A-4461-BDA0-1018216C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DF3A-E0B1-42FD-AADB-4072A8B4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DFC7-DF72-4A97-91C5-40CA736B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650B-D2A7-47FB-BB99-3BE03095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0D7-C8DB-4320-AC79-739583AD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042F-0F03-417F-9D5B-B40437F0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734F2-5B6C-4E8F-AA3D-D0C9DD77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178F-F5C4-4114-89CA-A29C19E4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6B23-187B-47C5-A884-E102BED3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CE8F-E3CE-46E2-A122-F91EB247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4664-094F-4D12-8B55-5F2BD0E5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FF07-965B-4C66-8B03-78D3BE67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EB7D-5748-4F26-90F5-61EC29CA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28036-79C3-4A0B-B1FD-5E38CFB8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A4FE-4BF0-4CC2-A76C-8D7ABEFC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699-C3BD-4901-B8D9-709C214B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6028-88D7-4282-B7B4-B8B37655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C42A-0165-4E77-B06B-521CD55B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5EAE-A780-4A4D-A372-56FD7FB4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F872B-2D50-4369-A594-D4D5DD4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94A1-48ED-421E-8A91-36C9C159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8FC8-55DB-44B9-8F85-8182DADD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2124-5681-4EE7-8FAA-4CC3B681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255A-F5B8-467A-AA0D-98F9E755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86F61-5A79-47BF-A53D-68E402E8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E056A-9F14-4CEC-9501-2D665E44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DCE-CF86-498A-A365-5967F437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F81BB-6C71-40A9-9026-CC6534BD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A16DC-9746-4322-B2DF-85D421AA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4074F-F502-41FB-9E17-8F69A6D0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7467F-4597-4563-9EA1-D7234C03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C90A3-4A9D-4397-AC3A-99C104E0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BC74D-F85E-42E6-B45C-316350C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644A9-A318-4C48-AC18-13C3C46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D39CB-2D8E-4934-BD97-332FC2A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00D71-83E0-4DD3-B52B-90A29C4A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BB9DB-8B75-4D7E-B935-1F3A5412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8FD-C676-489A-9060-6A3DC6BE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DF5E1-D15C-47D3-AFFF-D2F9DCE2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76248-EFA0-4047-A09C-B564CCEC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68E07-BCDF-464B-AD15-CAE07F68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D9C4F-5604-4A34-A6C4-86321BFB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778C-2F9E-48D5-9FAF-84C3F319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0CC49-F20D-4995-A06B-5DE13E51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BAE20-97A7-4D31-AE01-B8CDE941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EE2CF-877C-4705-8A41-9562B7BC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1C086-1C59-458F-9571-1118259C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FD55-7273-41D4-B522-9BE9A8A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6E3-30A6-4E14-96BA-67A8A5C9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D458-5E8E-4144-984F-280D7DAE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96B90-7274-40B0-9ED6-FFA0B176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B2028-073F-47C0-85B9-89904D6C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9EEDD-C5C0-47C2-92FE-76B22175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4A426-C539-4570-AE86-B5BCA079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4C9E7-01F2-4963-AD72-B8FA1B91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B5F01-0FD2-48BB-999A-DE7E1FDE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5255A-585E-4A0A-8120-FBE2A9F3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ED0B1-97B8-4CEB-8738-3544161C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AF7A6-5C22-4D78-B0BE-7D23251A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DBD-2FA6-4B6F-856E-64979C1F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F9FF-7410-4678-8259-55917A0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FFEA8-7AA1-48D3-B190-A295082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2C338-B6B4-47AB-949A-B16CEB9C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250C0-1A90-4053-A78C-20CB1213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9F40E-1BA1-46FC-B34F-5E2EAC45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DDFA6-F972-49B7-BC66-E0013DF4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7B45E-0D9B-4BCD-A887-E5D6D792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5B904-0D48-4109-831C-E63C2C4C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14E1-27AE-4147-B0AC-5F3F31A4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506F5-E532-448A-9455-CD7BEC6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3C6-834E-47EF-99E7-00836B78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0CBBD-2C04-4927-9B8A-EE416071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B8562-E2DE-4131-B9DA-05D5476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2DE55-4A1F-40FF-ADFC-446957EE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18F9F-FC33-45B9-A4E9-BEACB5B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140A3-E0C2-4535-BF6E-E163E19C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C195B-B66F-4BAF-85CF-EB572EE3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3608B-AA28-4773-8663-2FBE1244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E7B45-E045-4DA6-AD5F-A74C83FD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B1CE8-3B98-4D3A-81D5-01B1ADDF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DCAE1-1DFC-4FDE-854B-C1C9A874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0104-6C6A-484E-979F-B25B37701DE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92D8-B5A0-4B2E-B5BC-D8436FF00FF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D074-833B-4CE7-9541-FC8557DF982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A769-0F38-45AD-A11F-E69DAC33B99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E312-DABD-4D61-9977-53889E8E113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5651-E2CA-47BF-ABBE-CE068A486F8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4B3C-8F47-4EF6-97B3-84D3BA647F4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C6C6-6268-4F6B-AB54-FD644DD45CC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16C7-7A5B-42FC-8D9B-70D051245BB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3850-CA74-45D7-9125-8787551EB5C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BE77-4E2A-4EE2-B21D-70B54048D4C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25C4-2D4D-45DA-AE42-0CD714B8479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5CA6-1C8A-47FC-96DB-371CB47D743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06F4-31BE-4B78-9298-CD47506E206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694D-50B5-4625-AF08-AF89ED7933D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B7D7-20C0-4EA6-80E4-7AD359E8F72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CABA-7D4E-4520-9954-FC52E764CA6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7DD3-55F7-4BD9-866A-F15CF2C5172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38B7-0A95-460F-A654-6F0790853D8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CEEC-896B-49B6-9739-1FD861C3C44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429-5F9A-4A21-BCBA-4AD2C2C559D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FF92-57EA-46BC-BF38-4A10E75D24F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D85-BE7A-418E-8F0C-720B88A8E72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56EC-1E09-47E6-8B6F-F5801BE38CC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B35A-704F-4A5C-A5FD-98E9A15832E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C956-92E0-47AF-AF60-8023C724FD2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1DC3-77EC-4C82-A1B8-0E21149BC9D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FBF4-4EB2-4BC3-B331-810CC18B544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C9D1-322F-4368-A660-955BA963141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A1A6-5BB5-4CB1-B30F-BB2E62F42F9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82B6-7487-4B66-8896-8CF320C402C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9EFB-821F-4EE1-8282-1722D5030D1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DAE9-0A75-4DAE-8195-0A3E8A65C53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C4E0-5F30-46D0-8D5B-1C8380D31EF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arm-Up / EOC Prep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228240" y="1706040"/>
            <a:ext cx="8001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1. Carbohydrates are made of carbon, hydrogen, and ______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 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A. Oxygen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B. Phosphoru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C. Argon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D. Nitrogen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2. Which organic molecule is used for transport and repair in the body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A. Lipids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B. Protein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C. Carbohydrates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D. Nucleic acid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2" descr="enzyme"/>
          <p:cNvPicPr/>
          <p:nvPr/>
        </p:nvPicPr>
        <p:blipFill>
          <a:blip r:embed="rId1"/>
          <a:stretch/>
        </p:blipFill>
        <p:spPr>
          <a:xfrm>
            <a:off x="4114800" y="2217600"/>
            <a:ext cx="4724280" cy="273528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8493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2920" indent="-412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Enzymes bind </a:t>
            </a: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substrates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 (enzyme reactant) into </a:t>
            </a: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active sites (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pocket or groove on enzyme)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While the enzyme and the substrate are joined, the enzyme catalyzes the reaction and converts the substrate to the </a:t>
            </a: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product(s)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33520" y="198072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Calibri"/>
              </a:rPr>
              <a:t>The most classic example an enzymatic reaction is the hydrolysis of sucrose (table sugar) into glucose and fructose. </a:t>
            </a:r>
            <a:endParaRPr b="0" lang="en-US" sz="3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53" name="Picture 4" descr="practi22"/>
          <p:cNvPicPr/>
          <p:nvPr/>
        </p:nvPicPr>
        <p:blipFill>
          <a:blip r:embed="rId1"/>
          <a:stretch/>
        </p:blipFill>
        <p:spPr>
          <a:xfrm>
            <a:off x="380880" y="3962520"/>
            <a:ext cx="8382240" cy="19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2" descr="FG28_21"/>
          <p:cNvPicPr/>
          <p:nvPr/>
        </p:nvPicPr>
        <p:blipFill>
          <a:blip r:embed="rId1"/>
          <a:stretch/>
        </p:blipFill>
        <p:spPr>
          <a:xfrm>
            <a:off x="146160" y="1700280"/>
            <a:ext cx="8769240" cy="43956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</a:rPr>
              <a:t>Another look… </a:t>
            </a:r>
            <a:endParaRPr b="0" lang="en-US" sz="3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0000"/>
                </a:solidFill>
                <a:latin typeface="Corbel"/>
              </a:rPr>
              <a:t>Factors Affecting Enzyme Activity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bri"/>
              </a:rPr>
              <a:t>1. </a:t>
            </a:r>
            <a:r>
              <a:rPr b="0" lang="en-US" sz="4800" spc="-1" strike="noStrike" u="sng">
                <a:solidFill>
                  <a:srgbClr val="262626"/>
                </a:solidFill>
                <a:uFillTx/>
                <a:latin typeface="Calibri"/>
              </a:rPr>
              <a:t>Temperature</a:t>
            </a:r>
            <a:endParaRPr b="0" lang="en-US" sz="4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bri"/>
              </a:rPr>
              <a:t>2. </a:t>
            </a:r>
            <a:r>
              <a:rPr b="0" lang="en-US" sz="4800" spc="-1" strike="noStrike" u="sng">
                <a:solidFill>
                  <a:srgbClr val="262626"/>
                </a:solidFill>
                <a:uFillTx/>
                <a:latin typeface="Calibri"/>
              </a:rPr>
              <a:t>pH</a:t>
            </a:r>
            <a:endParaRPr b="0" lang="en-US" sz="4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bri"/>
              </a:rPr>
              <a:t>3. Enzyme Concentration</a:t>
            </a:r>
            <a:endParaRPr b="0" lang="en-US" sz="4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bri"/>
              </a:rPr>
              <a:t>4. Substrate Concentration</a:t>
            </a:r>
            <a:endParaRPr b="0" lang="en-US" sz="4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ffects on Enzyme Activit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Rate of Enzyme Activity is influenced by: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Substrate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 concentration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(more substrate = more activity until saturation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Temperature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(higher temperature = more activity until the enzyme’s protein denatures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61" name="Object 2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624816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ffects on Enzyme Activit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52280" y="184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Rate of Enzyme Activity is influenced by: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pH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(usually in range of 6-8 for humans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Inhibitors</a:t>
            </a:r>
            <a:r>
              <a:rPr b="0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(reduce activity by binding or changing shape of active sites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864" name="Group 4"/>
          <p:cNvGrpSpPr/>
          <p:nvPr/>
        </p:nvGrpSpPr>
        <p:grpSpPr>
          <a:xfrm>
            <a:off x="533520" y="3978360"/>
            <a:ext cx="8305200" cy="2651040"/>
            <a:chOff x="533520" y="3978360"/>
            <a:chExt cx="8305200" cy="2651040"/>
          </a:xfrm>
        </p:grpSpPr>
        <p:pic>
          <p:nvPicPr>
            <p:cNvPr id="865" name="Object 2" descr=""/>
            <p:cNvPicPr/>
            <p:nvPr/>
          </p:nvPicPr>
          <p:blipFill>
            <a:blip r:embed="rId1"/>
            <a:stretch/>
          </p:blipFill>
          <p:spPr>
            <a:xfrm>
              <a:off x="1752480" y="4248360"/>
              <a:ext cx="4800240" cy="23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 Box 6"/>
            <p:cNvSpPr/>
            <p:nvPr/>
          </p:nvSpPr>
          <p:spPr>
            <a:xfrm>
              <a:off x="6629040" y="397836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lkaline Intes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"/>
            <p:cNvSpPr/>
            <p:nvPr/>
          </p:nvSpPr>
          <p:spPr>
            <a:xfrm>
              <a:off x="533520" y="43750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cidic Stom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8"/>
            <p:cNvSpPr/>
            <p:nvPr/>
          </p:nvSpPr>
          <p:spPr>
            <a:xfrm flipV="1">
              <a:off x="5714640" y="4419360"/>
              <a:ext cx="990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9"/>
            <p:cNvSpPr/>
            <p:nvPr/>
          </p:nvSpPr>
          <p:spPr>
            <a:xfrm flipH="1" flipV="1">
              <a:off x="1752120" y="4800240"/>
              <a:ext cx="129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: Fun Fact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Enzymes work </a:t>
            </a: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quickly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—about </a:t>
            </a: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1000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 substrates are taken in and converted every second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nzyme Video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view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type of organic molecule are enzym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gend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457200" y="1851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Warm-u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Not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Video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Organic Molecules Review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Pepsin/Trypsin W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Sta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lean-u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ol-dow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8" name="TextBox 3"/>
          <p:cNvSpPr/>
          <p:nvPr/>
        </p:nvSpPr>
        <p:spPr>
          <a:xfrm>
            <a:off x="3733920" y="4724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iz on Organic Molecules &amp; Enzymes TOMORROW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otei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ow do enzymes speed up reaction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wer activation energ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material that the enzyme works on is called the…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strat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location of the reaction on the enzyme is called the…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ctivation sit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four factors affect enzym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emperatu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mount of enzy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mount of substrat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Exit ticket</a:t>
            </a: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80880" y="2133720"/>
            <a:ext cx="8477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On your notecard, answer the following questions without using your notes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Name at least 2 factors that affect enzymes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What do enzymes do for the body? (ie. why do we need them?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75920" y="1531800"/>
            <a:ext cx="775332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uided Notes 18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2133720"/>
            <a:ext cx="8400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Chemical reactions always involve the breaking of </a:t>
            </a: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bonds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 in reactants and the formation of new bonds in product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Reactants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Product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33" name="Picture 6" descr="helicase"/>
          <p:cNvPicPr/>
          <p:nvPr/>
        </p:nvPicPr>
        <p:blipFill>
          <a:blip r:embed="rId1"/>
          <a:stretch/>
        </p:blipFill>
        <p:spPr>
          <a:xfrm>
            <a:off x="4800600" y="3505320"/>
            <a:ext cx="36212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5440" y="2133720"/>
            <a:ext cx="8172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Activation energy</a:t>
            </a:r>
            <a:r>
              <a:rPr b="1" lang="en-US" sz="28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the energy needed to get the reaction started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36" name="Picture 2" descr="d_rtp66_p51_site_msc"/>
          <p:cNvPicPr/>
          <p:nvPr/>
        </p:nvPicPr>
        <p:blipFill>
          <a:blip r:embed="rId1"/>
          <a:srcRect l="0" t="0" r="0" b="13890"/>
          <a:stretch/>
        </p:blipFill>
        <p:spPr>
          <a:xfrm>
            <a:off x="990720" y="3429000"/>
            <a:ext cx="28810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286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alibri"/>
              </a:rPr>
              <a:t>Enzymes-</a:t>
            </a: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 Proteins that act as biological catalysts to speed up chemical reactions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Identify many enzymes by the suffix </a:t>
            </a:r>
            <a:r>
              <a:rPr b="1" lang="en-US" sz="4000" spc="-1" strike="noStrike" u="sng">
                <a:solidFill>
                  <a:srgbClr val="262626"/>
                </a:solidFill>
                <a:uFillTx/>
                <a:latin typeface="Calibri"/>
              </a:rPr>
              <a:t>–ase</a:t>
            </a: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helicase</a:t>
            </a: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 (unzips DNA)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lactase</a:t>
            </a: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 (breaks down lactose)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peptidyl transferase (forms peptide bonds in polypeptides)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51920" y="17524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626"/>
                </a:solidFill>
                <a:latin typeface="Calibri"/>
              </a:rPr>
              <a:t>Enzymes </a:t>
            </a:r>
            <a:r>
              <a:rPr b="1" lang="en-US" sz="3000" spc="-1" strike="noStrike" u="sng">
                <a:solidFill>
                  <a:srgbClr val="262626"/>
                </a:solidFill>
                <a:uFillTx/>
                <a:latin typeface="Calibri"/>
              </a:rPr>
              <a:t>speed up </a:t>
            </a:r>
            <a:r>
              <a:rPr b="1" lang="en-US" sz="3000" spc="-1" strike="noStrike">
                <a:solidFill>
                  <a:srgbClr val="262626"/>
                </a:solidFill>
                <a:latin typeface="Calibri"/>
              </a:rPr>
              <a:t>reactions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626"/>
                </a:solidFill>
                <a:latin typeface="Calibri"/>
              </a:rPr>
              <a:t>Question: How do enzymes speed up reactions?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626"/>
                </a:solidFill>
                <a:latin typeface="Calibri"/>
              </a:rPr>
              <a:t>Answer: They </a:t>
            </a:r>
            <a:r>
              <a:rPr b="1" lang="en-US" sz="3000" spc="-1" strike="noStrike" u="sng">
                <a:solidFill>
                  <a:srgbClr val="262626"/>
                </a:solidFill>
                <a:uFillTx/>
                <a:latin typeface="Calibri"/>
              </a:rPr>
              <a:t>lower</a:t>
            </a:r>
            <a:r>
              <a:rPr b="1" lang="en-US" sz="3000" spc="-1" strike="noStrike">
                <a:solidFill>
                  <a:srgbClr val="262626"/>
                </a:solidFill>
                <a:latin typeface="Calibri"/>
              </a:rPr>
              <a:t> activation energy, making it easier for   the chemical reaction to occur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41" name="Object 2" descr=""/>
          <p:cNvPicPr/>
          <p:nvPr/>
        </p:nvPicPr>
        <p:blipFill>
          <a:blip r:embed="rId1"/>
          <a:stretch/>
        </p:blipFill>
        <p:spPr>
          <a:xfrm>
            <a:off x="4778280" y="2173320"/>
            <a:ext cx="39322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4" descr=""/>
          <p:cNvPicPr/>
          <p:nvPr/>
        </p:nvPicPr>
        <p:blipFill>
          <a:blip r:embed="rId1"/>
          <a:stretch/>
        </p:blipFill>
        <p:spPr>
          <a:xfrm>
            <a:off x="2536920" y="4495680"/>
            <a:ext cx="6378480" cy="221004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228240" y="1676520"/>
            <a:ext cx="8629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Enzymes are </a:t>
            </a: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not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 used up in reactions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Reactants + enzyme </a:t>
            </a:r>
            <a:r>
              <a:rPr b="1" lang="en-US" sz="32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 Products + enzym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Enzymes are very </a:t>
            </a: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specific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-they usually only work on </a:t>
            </a: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one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 reac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28240" y="2133720"/>
            <a:ext cx="8629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Substrate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-the material that the enzyme works 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ctive site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-The special fold in the enzyme where the reaction happens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47" name="Picture 3" descr=""/>
          <p:cNvPicPr/>
          <p:nvPr/>
        </p:nvPicPr>
        <p:blipFill>
          <a:blip r:embed="rId1"/>
          <a:stretch/>
        </p:blipFill>
        <p:spPr>
          <a:xfrm>
            <a:off x="5867280" y="4013280"/>
            <a:ext cx="27054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2:45:55Z</dcterms:created>
  <dc:creator>Owner</dc:creator>
  <dc:description/>
  <dc:language>en-US</dc:language>
  <cp:lastModifiedBy>Angela Gorney</cp:lastModifiedBy>
  <dcterms:modified xsi:type="dcterms:W3CDTF">2011-02-24T19:01:14Z</dcterms:modified>
  <cp:revision>62</cp:revision>
  <dc:subject/>
  <dc:title>Enzymes</dc:title>
</cp:coreProperties>
</file>